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830-36CB-4AE9-A038-9B84477C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7EA-AA75-4E36-8AC7-F4DF063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FAC-0887-434B-B513-E7A1352F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C11-9F78-43CB-AC87-0FE2E5B1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44F-B640-4A46-9EB3-97406EB7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0F0-2ABF-4764-BB99-5BD09DC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008-8132-4975-AE55-7E4528AA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CF2-E35E-4DE8-A91B-8BF1552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C51-2E56-462C-879A-B5CCCDC6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FF4-6875-4EA6-AF29-A7B2918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14A-BC26-4087-9091-94F05A0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47F-5395-40BA-94A5-01AFE48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5E49-84E3-48A8-9B61-D63852105B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enee, Omar and J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144792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olmarking!</a:t>
            </a:r>
            <a:endParaRPr b="0" lang="en-US" sz="1800" spc="1" strike="noStrike">
              <a:ln w="3816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ime has been committed and there was a tool used in this crime. Find out which tool was used and who it belong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45720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Probl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ypothesis was made by looking at the tool marks visually. Our hypothesis was that it was made by screw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7400" y="723960"/>
            <a:ext cx="4876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ypothesi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e looked at the tool marks visually then recorded that in our dat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make casts and recorded the results in the dat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05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cedure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152280"/>
            <a:ext cx="5943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Data Results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560" y="380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ol mark visually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ol mark in a cast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-2590560" y="281916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RIME SCENE!!!</a:t>
            </a:r>
            <a:endParaRPr b="0" i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that the suspect, is responsible for the crime that has been commit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228600"/>
            <a:ext cx="53341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66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lusion</a:t>
            </a:r>
            <a:endParaRPr b="1" lang="en-US" sz="1800" spc="1" strike="noStrike">
              <a:ln w="34920">
                <a:solidFill>
                  <a:srgbClr val="ff0066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49:33Z</dcterms:created>
  <dc:creator>Administrator</dc:creator>
  <dc:description/>
  <dc:language>en-US</dc:language>
  <cp:lastModifiedBy>Administrator</cp:lastModifiedBy>
  <dcterms:modified xsi:type="dcterms:W3CDTF">2008-04-13T14:21:26Z</dcterms:modified>
  <cp:revision>3</cp:revision>
  <dc:subject/>
  <dc:title>Slide 1</dc:title>
</cp:coreProperties>
</file>